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TYPE.WAV" ContentType="audio/x-wav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9.jpeg" ContentType="image/jpe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C7A2-0D62-4A88-86B9-E2158CFA1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itizenship" TargetMode="External"/><Relationship Id="rId2" Type="http://schemas.openxmlformats.org/officeDocument/2006/relationships/hyperlink" Target="http://en.wikipedia.org/wiki/Settler_%28disambiguation%29" TargetMode="External"/><Relationship Id="rId3" Type="http://schemas.openxmlformats.org/officeDocument/2006/relationships/slide" Target="../slides/slide9.xml"/><Relationship Id="rId4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occurs in small pop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a natural disa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st 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use of genetic drift attributable to colonization by a limited number of individuals from a parent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of genetic drift resulting from a reduction in population (natural disaster) such that the surviving population is no longer genetically representative of the original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xchange due to the migration of fertile individuals or gametes between populations (reduces differences between popul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ing without regard to genetic make-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ta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ange in an organism’s D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ombination in the di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ossing-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ependent assortment of all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tion: Formation of a new species (related to its ancestral spec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graph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patric (of different countries) &gt; is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log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patric (of same country) (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o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ing sea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don’t fi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zygot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sperm and egg do not 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st zygot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sperm and egg join, but won’t implant in the ut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erile you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offspring develops, but is ster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m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ing dances and courtship behav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biologist hypothesize that major environmental changes have had tremendous impact on the formation of new species.  These scientist believe that evolution occurs in spur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ne pool – total genetic information available in a popul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lele frequency tends to remain the same from generation to generation unless acted upon by an outside for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llection of individuals of the same species that routinely interbreed ( living in the same loc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Flow- moving genes from population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tion implies long-term permanent residence (and often eventual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itizenshi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by the immigr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igr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the act and the phenomenon of leaving one's native country to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ett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 another count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0A1D-307E-492A-A5F1-104E6FAE2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7D8A-DE16-42C5-A6FC-0D4C0E0B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83A5-F2E2-4386-A64B-6903BD047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6AC5-25B9-4024-B23F-5B635F6FF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BAE77-9AE3-4350-8B04-6BA799FAE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90E20-D0A0-4AE1-81E2-DADE2AB3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BFAE-1E58-4610-BA15-B8951088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06BF-C4E3-4B66-B269-7B57F856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31DF-82E1-48C2-9EA7-C55C5BB4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49E7-58FF-4621-A169-044D15C3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A9152-47CB-471E-BA3C-CC9C4033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9D41-1367-4733-A1E0-E5BDBB0D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725F-FAAA-47CF-B7CD-8EDCFDA3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53B5-F78A-4F05-BFCD-9DEBA5BE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680C-7194-4588-BE8B-BB91CB04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7C27-E447-4304-9B27-605E1D01C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4861-C868-41B2-B3FB-DE8B91133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F766-DFC3-42C3-88A6-BCEC85E9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50E0-34D2-45E9-8501-9A868931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27FE-8FDE-47AF-A27D-F3FE3F77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85D4-850E-462B-958D-6D5BDBFE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AA27-1F95-4AF7-A749-58C247C2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9578-19EB-4FED-A65A-4B504C36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8C27-35AF-435D-BC5A-9AA4C07F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2090-0CAD-4E54-8EE7-0D43BD6F63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467C-CC3E-45F7-94C0-A3A60472CE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8.xml"/><Relationship Id="rId10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9144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EVOLUTION OF POPUL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09480" y="4952880"/>
            <a:ext cx="1295640" cy="989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666880" y="4267080"/>
            <a:ext cx="2403720" cy="18338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5486400" y="3733920"/>
            <a:ext cx="3276720" cy="2500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. Genetic Drif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 in the allele frequency as a result of random events or ch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nder Eff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tleneck Eff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4419720" y="1905120"/>
            <a:ext cx="4495680" cy="35812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114800" y="579132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 the smallest population allele frequency reaches 0 after the 45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generation = no vari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under Eff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850760"/>
            <a:ext cx="37926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ounder Effec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410000" y="1935000"/>
          <a:ext cx="4035600" cy="327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10000" y="1935000"/>
                    <a:ext cx="4035600" cy="32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ottleneck Eff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 Bottleneck Effe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653000" y="1768320"/>
            <a:ext cx="4033800" cy="385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. Gene Fl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ene Flo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5054760" y="1600200"/>
            <a:ext cx="323028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. Non-random Ma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dom Mating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times mating selection is often influenced by geographic proxim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animals do not mate random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4724280" y="2209680"/>
            <a:ext cx="4038840" cy="26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xual Selec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6. NATURAL SELEC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species have genetic vari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vironment presents many challe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ganisms tend to produce more offspring than the environment can support - competition ( struggle for surviv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individuals are better suited to cope with the challenges ( survival of fittes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cteristics best suited to environment tend to increase in 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opulation over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TABALIZING SELEC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viduals with the average form are of a trait have the highest fit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952880" y="1295280"/>
            <a:ext cx="3200400" cy="22179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838080" y="4648320"/>
            <a:ext cx="6400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.  Birth weight in offsp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.  Seed 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RECTIONAL SELEC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requency of one allele tends to move in one direction   (more of one of the extremes forms of the tra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03480" y="4613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3111480" cy="28195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914400" y="49528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ample – tongue length in antea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isruptive Selec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57200" y="1325520"/>
            <a:ext cx="4191120" cy="28400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1066680" y="4419720"/>
            <a:ext cx="3235320" cy="218916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viduals with either extreme have an advantage over individuals with the average form of the tra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:  Limpet shell colo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causes variatio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384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ombination in the diplo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876920" y="2819520"/>
          <a:ext cx="2057400" cy="15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819520"/>
                    <a:ext cx="20574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5334120" y="4952880"/>
            <a:ext cx="2035080" cy="16351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57200" y="16765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ut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4843440"/>
            <a:ext cx="4572000" cy="19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andom fusion of game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ert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ECIES FORMATIO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s with geographic iso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s in reproductive iso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tion occ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3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3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3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3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3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019920" y="2286000"/>
            <a:ext cx="2743200" cy="19335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4668840"/>
            <a:ext cx="2919240" cy="21891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CHANISM FOR REPRODUCTIVE ISOL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362320" y="1371600"/>
            <a:ext cx="44956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graphical iso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logical iso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mporal iso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cal iso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roductive fail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havioral Iso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ow does evolution/speciation occu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DUA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dual process that goes on all the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NCTUATED EQUILIBR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ods of rapid change are separated by periods of little or no 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2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2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MICROEVOLUTION </a:t>
            </a:r>
            <a:br>
              <a:rPr sz="6000"/>
            </a:b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LEADS TO </a:t>
            </a:r>
            <a:br>
              <a:rPr sz="6000"/>
            </a:b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MACROEVOLU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5505480" cy="48434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28600" y="525780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533412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 pool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ele frequency tends to remain the same from generation to generation unless acted upon by an outside force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PULATION GENET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y of evolution from a genetic point of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a popul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pecies is a naturally breeding group of organisms that produce fertile offspr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opulation is the smallest in which evolution occ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rdy-Weinberg Equilibri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llele frequency in a population can be calculated using the Hardy-Weinberg equ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equation states that all of the allele combination must add to ONE (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inate alleles + recessive alleles =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 + q =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requency of the heterozygote may also be calcu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Hardy-Weinberg Equilibri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umes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volution occu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5 conditions must be me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never happe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a model or a yardstick to measure how much a population or species has evolv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4986360" y="1600200"/>
            <a:ext cx="3360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ardy-Weinberg Equilibrium  Condi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net mu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mig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 population 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ing is ran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ural selection does not occ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sruption of Genetic Equilibriu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g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tic Dri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 Random M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ural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. MIG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 flow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3733920" y="3581280"/>
            <a:ext cx="487656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9T12:59:38Z</dcterms:created>
  <dc:creator>Room 157</dc:creator>
  <dc:description/>
  <dc:language>en-US</dc:language>
  <cp:lastModifiedBy>Tricia</cp:lastModifiedBy>
  <dcterms:modified xsi:type="dcterms:W3CDTF">2007-04-22T22:47:24Z</dcterms:modified>
  <cp:revision>4</cp:revision>
  <dc:subject/>
  <dc:title>Slide 1</dc:title>
</cp:coreProperties>
</file>